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9A43-628D-4B57-A2EC-82F2BADA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16EE-2651-4140-BD38-F9841E4E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0B0-8223-433D-9508-BE4FED4D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F60A-2B13-46E7-A6F8-2B43D66C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E28E-CFD8-4BA0-843E-69979449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ABA5-C549-45A5-8784-D83001D2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725E-8764-49D5-A21E-34AA8B61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FE5C-4FCB-40AC-B382-06DA848F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A441-D1AB-42F9-AAB8-40835CF9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CD19-4CD7-49DA-95FB-C283AFCF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5E82-B78F-42BB-8F00-A735F067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C7F6-9415-4136-9F0A-DA9C25CE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35FD-DDEF-4E49-AFC6-A7BD942B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DEAD-54CC-4A44-A40A-C2EBF6D6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AF85-659F-4673-AF02-66A32030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80B3-3E53-4AD3-AABC-4ADB1809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24A3-74F9-47F9-BEFB-E48A7F34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E2499-2D8F-4F91-8D3D-8F51033E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184CA-65F9-409B-B895-21A189A1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F23DD-B835-4078-80F7-DDECEFAB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38C78-5945-4FE2-B7C0-3F05E0EB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A27E5-03DA-4FEB-A5DA-45CE0ABE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AE86-0EA8-4E11-BDD6-51D69321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AB06C-F8DA-41FB-BC17-55B8B348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2C78A-78E0-41AE-B268-85B180C0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236D6-5637-4F1A-B7D7-784A3968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182C8-DD4E-4978-BE81-4248399B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8FECD-2A77-4F44-AE83-FBEC0042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754BD-E096-4086-A231-A1EDD353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34A77-5D79-4D29-AF6C-070B183C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F2A1C-294E-4147-B136-C88324F8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F1802-D815-45CA-9DD2-F41D14B2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310FE-F67C-44E4-8049-8BBB9E55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4E1E-27EB-45B9-9020-A818648F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2CD68-156E-48F7-A6BE-FA4ACF6F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4C17F-40D9-40BA-82A4-60DBBC2B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4D722-A04E-411A-BCB3-6928F7EB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C9D0A-371D-4163-8412-3C5D8F37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24D01-3282-48E6-A2CC-49C12868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996F9-D1FE-4922-836F-39EB7054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5EF48-8CF2-428C-BCB2-2AE13492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2E9F1-79E9-4EB5-8148-528B6F58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28F2D-C79A-499D-BD76-53B750BD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A76D6-CA08-4B0F-9AE5-8869BCDE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5CEC-BFE2-410F-A2E6-0E4ED695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70A33-5A82-4124-9A70-3F14B211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1F3E7-3993-4672-AF75-23A4E671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B43F9-948E-4474-B573-98EDEF84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5826E-E9A7-4925-829F-F7B6D9D2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D9D6B-0C21-45B4-953A-F110BC66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C4320-13A2-4C06-A351-8726165A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27E88-587A-474A-847F-D9087010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D7F76-3401-4D37-9759-556C3330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56F85-1A37-4BE5-B9F3-D37E9908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FAB78-C6C4-45FF-A531-839E8BA1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6051-ABB8-42FC-902B-39105968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2FB74-63CB-4F16-8A9B-E00840FA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19F0F-4B44-4128-A7EE-3BEA1A82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C2950-135B-4589-8FE1-90A09EE3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C4122-7C9F-422C-B4D4-08B53C42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B75BB-061D-4BBF-B138-2F2B385D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43C79-FA2B-44D3-9649-F71D6740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8B86A-B8CD-46CE-9DF2-F05DE2CE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B72AD-7C4D-4095-93C8-74DB2C63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3FA83-0AD2-4A2E-BE07-6F7FE098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E5CFE-301F-4D30-B8C5-52926A05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A25E-9AB3-49CC-9D97-725F67EA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25E45-593A-4140-A9D4-C9DD54EB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50C87-0CDF-49B3-A8D6-26978BF3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3014C-10C4-43EC-A9E4-439F2571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26FF5-B543-42DB-870A-064DA50F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77225-54FA-4D07-A27D-43DF7863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DA9F9-96B5-4620-9F95-8A1D6558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E43CE-5164-4CDA-876E-C829426F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49DA3-E074-41CD-BB6C-BF6A2C80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80394-0DE0-4F28-A6A4-067B24B9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9F4BF-78DC-4BC7-AA35-E84F4E2F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EC05-A954-4D19-B415-12B3640F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AFF87-5064-4336-B06D-0A7B3478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1A5D5-24A7-4800-BDF4-0411DE17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39C1B-3C3C-477B-98E0-8AA0E9CB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9634E-99D7-4970-A3FB-CE3E8941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6E5A5-2B0E-4237-BAA6-7F77FBF5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D40F-D74F-4DDB-9A58-7FEC62D4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bbc2"/>
            </a:gs>
            <a:gs pos="100000">
              <a:srgbClr val="bb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4617b">
                  <a:alpha val="1176"/>
                </a:srgbClr>
              </a:gs>
              <a:gs pos="100000">
                <a:srgbClr val="04617b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4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7ff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CF06-7D22-4789-AEBB-A08294B14DE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bbc2"/>
            </a:gs>
            <a:gs pos="100000">
              <a:srgbClr val="bb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4617b">
                  <a:alpha val="1176"/>
                </a:srgbClr>
              </a:gs>
              <a:gs pos="100000">
                <a:srgbClr val="04617b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4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7ff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DF58-6C0D-4369-BA04-2D9541A42D7A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bbc2"/>
            </a:gs>
            <a:gs pos="100000">
              <a:srgbClr val="bb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4617b">
                  <a:alpha val="1176"/>
                </a:srgbClr>
              </a:gs>
              <a:gs pos="100000">
                <a:srgbClr val="04617b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4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7ff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C216-1B58-4AC4-AE58-F2CECDE6502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bbc2"/>
            </a:gs>
            <a:gs pos="100000">
              <a:srgbClr val="bb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4617b">
                  <a:alpha val="1176"/>
                </a:srgbClr>
              </a:gs>
              <a:gs pos="100000">
                <a:srgbClr val="04617b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7ff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4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13EE-DF8F-45B2-87EA-7F010C174AF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bbc2"/>
            </a:gs>
            <a:gs pos="100000">
              <a:srgbClr val="bb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1BE5-6E6F-461B-A381-3088E25BCF4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bbc2"/>
            </a:gs>
            <a:gs pos="100000">
              <a:srgbClr val="bb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1EF8-9455-43C3-A8E6-017E1E173246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bbc2"/>
            </a:gs>
            <a:gs pos="100000">
              <a:srgbClr val="bb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348F-484D-4906-865F-997ACEECA92D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4" descr="C:\Users\Asus\Desktop\waterfall_zvxvw797.gif"/>
          <p:cNvPicPr/>
          <p:nvPr/>
        </p:nvPicPr>
        <p:blipFill>
          <a:blip r:embed="rId1"/>
          <a:stretch/>
        </p:blipFill>
        <p:spPr>
          <a:xfrm>
            <a:off x="2340000" y="0"/>
            <a:ext cx="5111640" cy="6816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extBox 1" descr=""/>
          <p:cNvPicPr/>
          <p:nvPr/>
        </p:nvPicPr>
        <p:blipFill>
          <a:blip r:embed="rId1"/>
          <a:stretch/>
        </p:blipFill>
        <p:spPr>
          <a:xfrm>
            <a:off x="2432160" y="2279520"/>
            <a:ext cx="4730760" cy="3908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1"/>
          <p:cNvSpPr/>
          <p:nvPr/>
        </p:nvSpPr>
        <p:spPr>
          <a:xfrm>
            <a:off x="250920" y="117360"/>
            <a:ext cx="8713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Здесь замешаны целых 2 фактора. во-первых, плотность жидкостей. Как известно - менее плотные тела стараются подняться вверх относительно более плотных. Пример: менее плотный горячий воздух всегда поднимается вверх, относительно холодного. Менее плотный пенопласт плавает на поверхности более плотной воды и т.д. В нашем случае, масло имеет меньшую, нежели вода, плотность и стремиться занять верхнее положени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Второй фактор - полярность молекул воды и масла. Молекула воды состоит из полярных молекул. Т.е. такая молекула имеет с одной стороны - положительный заряд, с другой - отрицательный. Как известно, противоположные заряды - притягиваются, а значит и молекулы воды отлично притягиваются друг к другу. Молекулы масла - неполярные, они покрыты "оболочкой" лишь отрицательных зарядов, и такая молекула наотрез отказывается притягиваться в полярной молекуле воды. Именно поэтому вода и масло - не смешиваются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1"/>
          <p:cNvSpPr/>
          <p:nvPr/>
        </p:nvSpPr>
        <p:spPr>
          <a:xfrm>
            <a:off x="0" y="558972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Соль повышает плотность воды. Чем больше соли в воде, тем сложнее в ней утонуть. В знаменитом Мёртвом море вода настолько солёная, что человек без всяких усилий может лежать на её поверхности, не боясь утон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3" descr="C:\Users\Asus\Desktop\mertvoe-more-700x467.jpg"/>
          <p:cNvPicPr/>
          <p:nvPr/>
        </p:nvPicPr>
        <p:blipFill>
          <a:blip r:embed="rId1"/>
          <a:stretch/>
        </p:blipFill>
        <p:spPr>
          <a:xfrm>
            <a:off x="1476360" y="0"/>
            <a:ext cx="6667560" cy="4448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Прямоугольник 1"/>
          <p:cNvSpPr/>
          <p:nvPr/>
        </p:nvSpPr>
        <p:spPr>
          <a:xfrm>
            <a:off x="684360" y="0"/>
            <a:ext cx="8064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Активированный уголь широко используется производителями фильтров для воды. Он не только устраняет неприятные запахи различных примесей в воде, но и адсорбирует большинство вредных веществ. Чтобы очистить воду, нужно упаковать 5 таблеток активированного угля в марлю или вату и поместить их на дно сосуда для воды. К утру вода будет очищ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Очищение с помощью шер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Еще один народный метод очистки воды. Один конец шерстяной нитки нужно опустить в посуду с водой, а другой - в пустую. Вода станет капать из полной в пустую посуду уже хорошо очищенной. Через такую очистку воду можно пропускать несколько раз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C:\Users\Asus\Desktop\2017-02-05_220105.jpg"/>
          <p:cNvPicPr/>
          <p:nvPr/>
        </p:nvPicPr>
        <p:blipFill>
          <a:blip r:embed="rId1"/>
          <a:stretch/>
        </p:blipFill>
        <p:spPr>
          <a:xfrm>
            <a:off x="395280" y="333360"/>
            <a:ext cx="8447040" cy="4390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468360" y="932760"/>
            <a:ext cx="7848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В Российской Федерации принята целевая программа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  <a:ea typeface="Calibri"/>
              </a:rPr>
              <a:t>«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Чистая вода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  <a:ea typeface="Calibri"/>
              </a:rPr>
              <a:t>»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. Она предусматривает такие меры:                                                 1) рациональное использование водных ресур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2) обеспечение безопасности гидротехнических сооружений;                                      3) повышение уровня защищённости водных ресур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4) принятие законодательных а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468360" y="929520"/>
            <a:ext cx="84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Times New Roman"/>
                <a:ea typeface="Calibri"/>
              </a:rPr>
              <a:t>Почему же вода волшебна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Times New Roman"/>
                <a:ea typeface="Calibri"/>
              </a:rPr>
              <a:t> </a:t>
            </a:r>
            <a:r>
              <a:rPr b="0" lang="ru-RU" sz="4800" spc="-1" strike="noStrike">
                <a:solidFill>
                  <a:srgbClr val="0070c0"/>
                </a:solidFill>
                <a:latin typeface="Times New Roman"/>
                <a:ea typeface="Calibri"/>
              </a:rPr>
              <a:t>Нужно ли беречь воду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Times New Roman"/>
                <a:ea typeface="Calibri"/>
              </a:rPr>
              <a:t> </a:t>
            </a:r>
            <a:r>
              <a:rPr b="0" lang="ru-RU" sz="4800" spc="-1" strike="noStrike">
                <a:solidFill>
                  <a:srgbClr val="0070c0"/>
                </a:solidFill>
                <a:latin typeface="Times New Roman"/>
                <a:ea typeface="Calibri"/>
              </a:rPr>
              <a:t>Как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755640" y="1095840"/>
            <a:ext cx="76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  <a:ea typeface="Times New Roman"/>
              </a:rPr>
              <a:t>Мне было интерес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  <a:ea typeface="Times New Roman"/>
              </a:rPr>
              <a:t>Я сегодня понял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  <a:ea typeface="Times New Roman"/>
              </a:rPr>
              <a:t>За что ты можешь себя похвали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TextBox 1" descr=""/>
          <p:cNvPicPr/>
          <p:nvPr/>
        </p:nvPicPr>
        <p:blipFill>
          <a:blip r:embed="rId1"/>
          <a:stretch/>
        </p:blipFill>
        <p:spPr>
          <a:xfrm>
            <a:off x="1189080" y="1700280"/>
            <a:ext cx="7126200" cy="3047760"/>
          </a:xfrm>
          <a:prstGeom prst="rect">
            <a:avLst/>
          </a:prstGeom>
          <a:ln w="0">
            <a:noFill/>
          </a:ln>
        </p:spPr>
      </p:pic>
      <p:sp>
        <p:nvSpPr>
          <p:cNvPr id="303" name="TextBox 2"/>
          <p:cNvSpPr/>
          <p:nvPr/>
        </p:nvSpPr>
        <p:spPr>
          <a:xfrm>
            <a:off x="3419640" y="5084640"/>
            <a:ext cx="532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дготовила 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БОУ «СШ№4» муниципального образования «город Десногорск» Смоленской обла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Ермакова Наталья Владими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1"/>
          <p:cNvSpPr/>
          <p:nvPr/>
        </p:nvSpPr>
        <p:spPr>
          <a:xfrm>
            <a:off x="6875640" y="1197000"/>
            <a:ext cx="2089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Arial"/>
                <a:ea typeface="Arial"/>
              </a:rPr>
              <a:t>«Воде, – сказал великий </a:t>
            </a:r>
            <a:r>
              <a:rPr b="0" lang="ru-RU" sz="2800" spc="-1" strike="noStrike" u="sng">
                <a:solidFill>
                  <a:srgbClr val="0f6fc6"/>
                </a:solidFill>
                <a:uFillTx/>
                <a:latin typeface="Arial"/>
                <a:ea typeface="Arial"/>
              </a:rPr>
              <a:t>Леонардо да Винчи, </a:t>
            </a:r>
            <a:r>
              <a:rPr b="0" lang="ru-RU" sz="2800" spc="-1" strike="noStrike">
                <a:solidFill>
                  <a:srgbClr val="0f6fc6"/>
                </a:solidFill>
                <a:latin typeface="Arial"/>
                <a:ea typeface="Arial"/>
              </a:rPr>
              <a:t>– была дана волшебная власть стать соком жизни на Земле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63360" y="-136440"/>
            <a:ext cx="10630080" cy="59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4" descr="C:\Users\Asus\Desktop\leonardo-da-vinci-segundoenfoque.jpg"/>
          <p:cNvPicPr/>
          <p:nvPr/>
        </p:nvPicPr>
        <p:blipFill>
          <a:blip r:embed="rId1"/>
          <a:stretch/>
        </p:blipFill>
        <p:spPr>
          <a:xfrm>
            <a:off x="0" y="60480"/>
            <a:ext cx="6778800" cy="6797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1"/>
          <p:cNvSpPr/>
          <p:nvPr/>
        </p:nvSpPr>
        <p:spPr>
          <a:xfrm>
            <a:off x="250920" y="4941720"/>
            <a:ext cx="8893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f6fc6"/>
                </a:solidFill>
                <a:latin typeface="Arial"/>
                <a:ea typeface="Arial"/>
              </a:rPr>
              <a:t>Известный французский писатель – летчик </a:t>
            </a:r>
            <a:r>
              <a:rPr b="0" lang="ru-RU" sz="1600" spc="-1" strike="noStrike" u="sng">
                <a:solidFill>
                  <a:srgbClr val="0f6fc6"/>
                </a:solidFill>
                <a:uFillTx/>
                <a:latin typeface="Arial"/>
                <a:ea typeface="Arial"/>
              </a:rPr>
              <a:t>Антуан-де Сент-Экзюпери</a:t>
            </a:r>
            <a:r>
              <a:rPr b="0" lang="ru-RU" sz="1600" spc="-1" strike="noStrike">
                <a:solidFill>
                  <a:srgbClr val="0f6fc6"/>
                </a:solidFill>
                <a:latin typeface="Arial"/>
                <a:ea typeface="Arial"/>
              </a:rPr>
              <a:t>, самолет которого потерпел аварию в пустыне Сахара, – писал так:         «Вода!.. У тебя нет ни вкуса, ни цвета, ни запаха, тебя невозможно описать, тобой наслаждаются, не ведая, что ты такое! Нельзя сказать, что ты необходима для жизни: ты сама жизнь. Ты наполняешь нас радостью, которую не объяснишь нашими чувствами. С тобой возвращаются к нам силы, с которыми мы уже простились. По твоей милости в нас вновь начинают бурлить высокие родники нашего сердца. Ты самое большое богатство на свете...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C:\Users\Asus\Desktop\CLisrKzjcYI.jpg"/>
          <p:cNvPicPr/>
          <p:nvPr/>
        </p:nvPicPr>
        <p:blipFill>
          <a:blip r:embed="rId1"/>
          <a:stretch/>
        </p:blipFill>
        <p:spPr>
          <a:xfrm>
            <a:off x="324000" y="189000"/>
            <a:ext cx="8594640" cy="4511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"/>
          <p:cNvSpPr/>
          <p:nvPr/>
        </p:nvSpPr>
        <p:spPr>
          <a:xfrm>
            <a:off x="6948360" y="826200"/>
            <a:ext cx="219564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«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Капля воды дороже золота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»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 - так сказал великий русский ученый </a:t>
            </a:r>
            <a:r>
              <a:rPr b="0" lang="ru-RU" sz="2800" spc="-1" strike="noStrike" u="sng">
                <a:solidFill>
                  <a:srgbClr val="0070c0"/>
                </a:solidFill>
                <a:uFillTx/>
                <a:latin typeface="Times New Roman"/>
                <a:ea typeface="Arial"/>
              </a:rPr>
              <a:t>Д.Менделее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3"/>
          <p:cNvSpPr/>
          <p:nvPr/>
        </p:nvSpPr>
        <p:spPr>
          <a:xfrm>
            <a:off x="63360" y="-136440"/>
            <a:ext cx="7972560" cy="59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"/>
          <p:cNvSpPr/>
          <p:nvPr/>
        </p:nvSpPr>
        <p:spPr>
          <a:xfrm>
            <a:off x="63360" y="-136440"/>
            <a:ext cx="7972560" cy="59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6" descr="C:\Users\Asus\Desktop\img3 - копия.jpg"/>
          <p:cNvPicPr/>
          <p:nvPr/>
        </p:nvPicPr>
        <p:blipFill>
          <a:blip r:embed="rId1"/>
          <a:stretch/>
        </p:blipFill>
        <p:spPr>
          <a:xfrm>
            <a:off x="179280" y="0"/>
            <a:ext cx="6801120" cy="6638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C:\Users\Asus\Desktop\vodopad-priroda-voda-zelen-pejzaz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1"/>
          <p:cNvSpPr/>
          <p:nvPr/>
        </p:nvSpPr>
        <p:spPr>
          <a:xfrm>
            <a:off x="250920" y="62118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Земля  удалена от Солнца на расстоянии 149,6 млн. км, что позволяет воде быть жидкой, твердой и газообраз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" descr="C:\Users\Asus\Desktop\setwalls_ru-46336.jpg"/>
          <p:cNvPicPr/>
          <p:nvPr/>
        </p:nvPicPr>
        <p:blipFill>
          <a:blip r:embed="rId1"/>
          <a:stretch/>
        </p:blipFill>
        <p:spPr>
          <a:xfrm>
            <a:off x="684360" y="0"/>
            <a:ext cx="8208720" cy="6156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Прямоугольник 1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В таких регионах, как США, Китай и Индия, темпы потребления подземных вод превышают темпы их пополнения, и происходит постоянное снижение уровня грунтовых вод. Часто некоторые реки, такие, как Колорадо в США и Хуанхэ в Китае, пересыхают до их впадения в м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2" descr="C:\Users\Asus\Desktop\1280-594908046-yellow-river-at-hukou-waterfall.jpg"/>
          <p:cNvPicPr/>
          <p:nvPr/>
        </p:nvPicPr>
        <p:blipFill>
          <a:blip r:embed="rId1"/>
          <a:stretch/>
        </p:blipFill>
        <p:spPr>
          <a:xfrm>
            <a:off x="684360" y="0"/>
            <a:ext cx="7999200" cy="5330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1"/>
          <p:cNvSpPr/>
          <p:nvPr/>
        </p:nvSpPr>
        <p:spPr>
          <a:xfrm>
            <a:off x="0" y="501336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По статистике всемирной организации здравоохранения 80% заболеваний и 52% детских смертей связано с некачественной водой.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 Вода занимает 70% человеческого организма и каждые 18 дней обновляется. В настоящее время более 40 процентов населения мира живет в районах, испытывающих среднюю или острую нехватку в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C:\Users\Asus\Desktop\water-pumpmakers.jpg"/>
          <p:cNvPicPr/>
          <p:nvPr/>
        </p:nvPicPr>
        <p:blipFill>
          <a:blip r:embed="rId1"/>
          <a:stretch/>
        </p:blipFill>
        <p:spPr>
          <a:xfrm>
            <a:off x="324000" y="0"/>
            <a:ext cx="8820000" cy="4960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7T17:36:50Z</dcterms:created>
  <dc:creator>Asus</dc:creator>
  <dc:description/>
  <dc:language>en-US</dc:language>
  <cp:lastModifiedBy>Gamer-PC</cp:lastModifiedBy>
  <dcterms:modified xsi:type="dcterms:W3CDTF">2021-10-11T17:19:59Z</dcterms:modified>
  <cp:revision>20</cp:revision>
  <dc:subject/>
  <dc:title>Слайд 1</dc:title>
</cp:coreProperties>
</file>